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00F0-6E8E-49E7-8221-E9862FE2CAAC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2012-4175-4FF3-B85D-BEC3E7A263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541-2E77-4DBD-9E5C-588094E9B7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7E8E-46BB-47BA-93D2-835F094C7B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51F4-C377-46A9-83D3-F15F33FF0D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5050-D5A6-4406-BB86-8FF84C6893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E937-6FBC-48AB-9FB2-91424F88D6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DC7B-D1C6-4BC5-BAD9-F97C701841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C013-8833-4DBC-AED5-C04552E8FF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CC2F-ECFD-4416-AD4C-F9FCC600DD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5253-42CA-47C7-B5F1-51DD83FC1C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3D6-104A-471F-B938-477E3487B1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FC99-1650-467E-B8B5-0CE443B617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0F8D-8D59-4827-9A0E-57EE243951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E3C-923F-4713-8B7F-2BC67E4FA9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C5BD-6605-49C9-9927-CE5AD6FFE3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82C7-78E0-4A52-8E77-6141B49ACA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3620-3E31-4458-B218-4BD276DCD7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7B92-F23A-4122-932F-5FC29C1875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FAF-6510-4CC3-B14B-54E0A36411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1A83-DF0C-4CD2-BAEB-20F1BCC6EB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BB9-40D4-441A-9BFA-D8CEC687B9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E77-42CA-4791-844D-246B61FE97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706F-372D-416B-910C-7C61C7E81C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A707-BB9B-49D6-A46F-7C76C0C279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06F3-50D3-45E9-9E46-011DED1B55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6FB6-B101-4B23-A3B5-1744970ACC2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7F0-8D1A-4602-A12D-B264374AAD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DA47-B97C-4628-B5B2-38FD4A4B20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FD33-9279-4A75-B6AF-16709002FC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C67E-B528-48D7-95CE-B948A5C1A6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A72C-80C9-4188-AE18-5793A2AD41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D252-6D6C-40E9-BAAB-B67F051A70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6882-ACA4-4747-8EE6-F699242976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63C7-956E-4FBA-A783-E769492494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B2EA-B27B-4714-A69D-E9E0A5D43F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A892-3EAA-4C92-9278-463FF93F17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184-A0EB-4C6C-9047-416EAB3B29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A1F9-ADCD-4120-A369-813139B42E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9439-84C2-4242-9B95-C8CA1F8DC4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A5C4-A0AE-4F34-BF07-44B32B6C73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0DF5-3C91-4CC4-9BD0-FFA480BB81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BEE2-E3ED-4FEC-86ED-BA637A3F26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E9A9-261A-4153-B83A-70C46B21CB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3CE3-749D-47AB-B622-4779617FF5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57C6-A55F-4459-9E3C-1048E5A425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6AE3-857A-486A-8F58-C73696FB4A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907F-86C1-48FD-AB75-78C34002F4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D5D3-7E8E-4E47-9C86-254F4DDF48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744F-BA13-460D-9DDF-AD1F4A15E4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3385-907E-4334-A9EC-6031887BFB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A8BC-3292-400C-BF4A-2AC07E9855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AE31-F6BD-4A21-AC9C-3CBF263FD2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77A-D66E-4AFA-8661-7D89894E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E5E-16E8-4B60-ADBB-21BF0AA9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402-EB1D-47F6-B6FB-51CA763B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AE1-74BA-46BF-A940-35D4AB54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3F4-2F5C-4AF5-88D8-E28EB83B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C96-3D89-4F45-8EDC-547C35DE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4F3-B3F0-494A-B8AA-20390FBA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FE8-ED4C-48AD-A39B-46538D52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A1B-E494-4B06-9EA5-462A0A02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A29-221D-4833-B5C0-2E4B3579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FC7-2158-44E1-9F59-C437F1D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5C5-45EF-4AE5-91AD-ED1638A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39AE-2113-47CE-8D02-2C03FD1B9F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B790-46CD-4B49-9B0F-3DEA34D5AF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50FC-C78C-41EE-893A-9DAA0DD6EA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72F7-31D7-4D6B-AB27-87DCA41BE1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3D78-4A48-4073-BC95-F61FA3DB32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D0D3-9CD1-448E-9817-43CC2EFCC8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A470-7A95-4AD9-BA83-0ADBB43707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BA42-9600-4B0B-87DB-11339F71D7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C015-03E6-4914-BB51-07D81B00E3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9054-9210-4856-8E08-F57EA63843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3F17-2EA8-4DA2-9845-4E8D8547B7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D740-E34F-48CA-B3EC-631464CB55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7B3D-9D3C-4228-A23A-C83DE70744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1799-E0FF-4987-B847-C41AB92983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F45-C5D4-4B96-B2D8-F44DD572DE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8837-8305-429B-B658-934E462599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0904-8FB0-4F98-95C8-3C937D28C1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DE33-EDD0-4080-BA45-49701567A9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E718-EC82-42E8-A599-F54C76106A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A369-678E-405D-81A8-8329A5C54C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AD51-ED6F-46A4-864E-0BD07D7D03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2B4F-538E-4489-8855-5A41F299F7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12FC-840D-4649-881D-66CDB183DB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360F-1FE9-49B4-81F2-1BEFCA1BBC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834B-3611-49AD-BDF0-973EB07C27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71E0-BC8F-45EE-AE20-0D0A62E0BC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3DED-C327-4B4F-B9D5-21114E6A27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4469-E682-40AB-B8A0-DCB2044EC4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FBE5-CE74-47BA-8393-F285BB5D1A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F66C-58A2-4B74-A6B2-A6FF67C7A7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1A3B-5E05-4044-BBAA-619A195173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2B2F-0CB2-4D88-9239-83D4247892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7307-D6F7-4E54-A103-39AB2588BC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9DB0-7EE7-49BB-B514-E0CEC43A6F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4F28-28CE-4A18-880E-81E2D91A5F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26F-E8B5-453B-84E5-A58847F222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41D3-5413-4285-A946-AE3554D62B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ED6-BD44-40E3-B863-2430560321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83A1-5D04-4FAE-A51B-287274F67D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BEAE-EC09-4A7F-9780-27D18207B3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B0AD-5F8B-4F1A-B03B-FC4C209870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C4F2-7476-43DF-8C2F-8B930D1BD2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E3E9-AC25-4D81-A216-D399D70EA0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0C0-111E-4180-B59E-AE5AD87846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FCE8-628D-44D1-8B84-6554A9E699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84D4-3A1E-497C-BD2C-15175036E0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ED27-DB5B-4F36-A875-802AE5F611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FD03-1BBE-40E5-8814-9FBAF55714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1D52-ED71-4F79-97DE-253AD8CEC6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E5EA-C35B-4FD3-9B40-7EEE8B0953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8468-A897-4B3D-B4EB-46E80F409E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210B-3171-4D7C-AB4D-4A4C75115A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BCD8-A3AB-4F93-A193-AF1D8B0E86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E872-CE54-4B94-8467-8183F11CBA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A707-FDBF-45B3-A2ED-12087E0EA6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3055-D72F-4E4F-AB0F-26A7409763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A1EF-6CF5-4D26-A599-404EBFB901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54F9-6BFC-4409-B240-58F84BD783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5843-A880-4C36-B847-182909EC80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FB39-7321-448E-9BCB-FD5122A2F1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29D1-B7F9-4D58-92AD-C2E631ACD8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4D5C-A825-42A2-82B6-7DE62C4054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01CA-F9DC-46ED-B6D0-891C8BBAE9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AC24-825D-4001-B597-BCAF5EFF05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29th Nov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9F9-56B5-4E70-A949-5BF2006659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0AC2-5914-42C8-9613-9FC370AFE2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6DB6-8206-4B57-9167-0934603D81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2-07-20T10:30:27Z</dcterms:modified>
  <cp:revision>90</cp:revision>
  <dc:subject/>
  <dc:title>Aims and Objectives</dc:title>
</cp:coreProperties>
</file>